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735C-C110-464E-8C77-B3F5EB688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5EB9-9959-47F7-9329-4843632AE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1492-81B5-4449-9467-083C45182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864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516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864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516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0823-773C-4493-9F92-318BD85EF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0DC30-DA44-4156-A734-6063513A3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1B491-ACF5-45FB-AAB1-E0F44F33F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DDBAA-088A-428E-AF2F-8844B74F6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934E5-2276-4E4C-8C31-48109AAD4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E21DC-B865-441E-AF58-63F52FADC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559B4-229C-46EE-926A-62911DB62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10E99-DB46-4CC4-A944-FCF0B82AD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54AF-88D5-4693-ACF3-8388FB0F1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E8FC6-4EAE-4E44-8F0A-AA67663D1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37D08-80C8-4A2F-A252-B2F6DEC57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3E17A-C252-435E-8B7B-37BD572F0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31DD5-B7CD-4801-A420-FCE978B3D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3864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1516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6212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3864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1516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870D0-CEC4-4F54-B14E-EC65E7BC2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2652-9AA9-44A5-B02E-97494DD49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A366-2F0D-464C-9B00-13FC703A4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2347-449B-4B83-9CBF-C7028D9D2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AAE9-BA79-47F0-877D-F7D9EAEB7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1AA5-E5F0-4227-8518-31C20D9A7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506C-68FD-4791-87BD-D96F2C464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865E-B9FB-4797-9AC8-BD9FC46CE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7428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35D47-67FD-4236-B99C-8FC3EA217D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030C6-17F5-4B69-A6BD-9FECD0EA79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image" Target="../media/image4.pct"/><Relationship Id="rId4" Type="http://schemas.openxmlformats.org/officeDocument/2006/relationships/image" Target="../media/image5.pct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Objectives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able to define an ecosyst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able to trace the cycling of oxygen through an ecosyst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able to explain how water, nitrogen, or carbon cycles through an ecosyst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Oxygen Cycle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are the equations for photosynthesis and cellular respiration (you’ll learn them next year, don’t need to memorize them now).  Notice what happens with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tosynthes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-&gt;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ular Respir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&gt;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Oxygen Cycle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066680" y="0"/>
            <a:ext cx="7086600" cy="68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Cycles of Matter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61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three other major cycles of matter, more complicated than that oxygen cycle: Carbon, water, and nitrog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’re going to get into 3 groups, research one matter cycle, and prepare a brief lesson on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u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horter than the vertebrate class presentations!  Jus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 periods to prep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one period to pre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I do want two specific things, in addition to being good teachers: a handout study guide for students to fill out, and either a poster or moving physical demon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Ecosystems!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ecology!  Ecosystems are an essential unit!  I tried to just use the word “community” last week but notice how ecosystems are such a big deal that I failed sometimes and used the word anyw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cosystem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fferent from a community.  Remind me, what’s a commun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Ecosystems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munity is defined as all the populations in an area and their interactions with each other.  People usually think that this is an ecosystem, but not qu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n ecosystem is all the biotic factors (the community) in an area and their functioning with all th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biotic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factors of that environ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ember biotic vs. abiotic, from the characteristics of lif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system is another step up in complexity.  It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ll the living things, plus all the non-living thin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soil, the water, the air, the rock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Levels of Organization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s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co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Ecosystems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some of the biotic factors in the Harwich ecosyst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Ecosystems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some of the biotic factors in the Harwich ecosyst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some of the abiotic factors in the Harwich ecosyst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Ecosystems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’re going to take some time off from exclusively the living stuff to look at some of these abiotic factors.  Namely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 cycles of some of the most important elements and molecules through ecosystem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xample, oxygen!  What’s important about oxyg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Oxygen Cycle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xygen cycle includes fixation into rock and mineral, but I’d like to point out especially its cycle in terms of the energy processes we’ve been discuss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xygen cycles between photosynthesis and cellular respi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hotosynthesis (creating glucose) releases oxygen into the atmosphere, cellular respiration (breaking glucose down) brings it back into the living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Oxygen Cycle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hotosynthesis (creating glucose)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leases pure oxygen (O</a:t>
            </a:r>
            <a:r>
              <a:rPr b="0" i="1" lang="en-US" sz="2800" spc="-1" strike="noStrike" u="sng" baseline="-25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into the atmosphere, cellular respiration (breaking glucose down)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rings O</a:t>
            </a:r>
            <a:r>
              <a:rPr b="0" i="1" lang="en-US" sz="2800" spc="-1" strike="noStrike" u="sng" baseline="-25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back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into the living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hotosynthes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akes in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oxygen in the form of carb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ioxide (CO</a:t>
            </a:r>
            <a:r>
              <a:rPr b="0" i="1" lang="en-US" sz="2400" spc="-1" strike="noStrike" u="sng" baseline="-25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, and cellular respirati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leases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oxygen in the form of carb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ioxid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581280" y="5105520"/>
            <a:ext cx="1752840" cy="17524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609480" y="5086440"/>
            <a:ext cx="2362320" cy="17715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6248520" y="5362560"/>
            <a:ext cx="250164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2T14:51:21Z</dcterms:created>
  <dc:creator>Rebecca Stang</dc:creator>
  <dc:description/>
  <dc:language>en-US</dc:language>
  <cp:lastModifiedBy>Rebecca Stang</cp:lastModifiedBy>
  <dcterms:modified xsi:type="dcterms:W3CDTF">2010-05-31T13:19:51Z</dcterms:modified>
  <cp:revision>46</cp:revision>
  <dc:subject/>
  <dc:title>Ecosystems and Cycles of Matter</dc:title>
</cp:coreProperties>
</file>